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7D11-A84B-4612-8212-62195742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CC1-9406-4DAC-A91C-24C5AB35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900-BB28-4349-80FE-C1BEBAC7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828-F591-46CE-8D2B-969C8FCA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77-348B-4195-AF09-6DAEEE0B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9EE-09A3-43B4-BF7F-82359596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607-56D6-4D16-A9C3-91BF92F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B30-EC74-4D40-89DD-726A918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3E3-5885-4D08-93A1-0A3E611B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9F9-BA4E-4132-B880-064A406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DFC-D478-4380-BB52-A2048C8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1C2-8D86-437B-A444-EBF4031F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384-90CC-4BE3-83FB-DCA7729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C01-F0F9-4C99-B258-B8B473F8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hhhh their shooting free throw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teven Hinsh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noise affect free throw prest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at silence will get your nerves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noise you are just like shooting normal in a 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828800"/>
          <a:ext cx="9829800" cy="29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8298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981080"/>
          <a:ext cx="914400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lence kept free throw percentages higher than with no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8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are that noise decrees the free throw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ncreased the percentage of free throws, but for the most part it increased the free throw percent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22:38Z</dcterms:created>
  <dc:creator>STERLING  USD376</dc:creator>
  <dc:description/>
  <dc:language>en-US</dc:language>
  <cp:lastModifiedBy>USD376</cp:lastModifiedBy>
  <dcterms:modified xsi:type="dcterms:W3CDTF">2011-03-28T19:46:35Z</dcterms:modified>
  <cp:revision>1</cp:revision>
  <dc:subject/>
  <dc:title>Shhhhh their shooting free throws </dc:title>
</cp:coreProperties>
</file>